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1958F5D-0C12-4060-8584-30FCC703105B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D6D1-C58B-49CC-A466-71BA34AB6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080" y="5395680"/>
            <a:ext cx="616896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EFEB-5CE0-4579-A887-446E4E4A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03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4240" y="2133720"/>
            <a:ext cx="30103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080" y="5395680"/>
            <a:ext cx="30103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4240" y="5395680"/>
            <a:ext cx="30103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AD60-0B4E-4117-840A-2EDC1C59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19861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8920" y="2133720"/>
            <a:ext cx="19861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4760" y="2133720"/>
            <a:ext cx="19861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080" y="5395680"/>
            <a:ext cx="19861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8920" y="5395680"/>
            <a:ext cx="19861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4760" y="5395680"/>
            <a:ext cx="19861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0D3F-9B78-4C09-ADAA-66C3EB4CA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C642-648C-4B4F-8581-1C54AC91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609C-DFBC-4D9B-8E06-ABBCB05F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032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4240" y="2133720"/>
            <a:ext cx="301032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A8EE-1E64-4066-B160-0208B2B5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F3B3-5AF0-4B5F-9699-D4F5A057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080" y="75960"/>
            <a:ext cx="61689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E428-487D-4106-B6AF-D6884A30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03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4240" y="2133720"/>
            <a:ext cx="301032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080" y="5395680"/>
            <a:ext cx="30103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1D88-2839-4F17-B627-01E58391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032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4240" y="2133720"/>
            <a:ext cx="30103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4240" y="5395680"/>
            <a:ext cx="30103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0017-BB95-47CB-BEA8-D8780720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03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4240" y="2133720"/>
            <a:ext cx="301032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395680"/>
            <a:ext cx="6168960" cy="29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00A5-5A9E-4FC4-BA97-28743740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080" y="8326080"/>
            <a:ext cx="159696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2880" y="8326080"/>
            <a:ext cx="21682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26080"/>
            <a:ext cx="159696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F3815-8727-42E8-8C17-E04DF5764CB5}" type="slidenum">
              <a:rPr b="0" lang="it-IT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20640" y="7737480"/>
            <a:ext cx="582948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cc"/>
                </a:solidFill>
                <a:latin typeface="Comic Sans MS"/>
              </a:rPr>
              <a:t>Scuola Primaria Pecorini (G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cc"/>
                </a:solidFill>
                <a:latin typeface="Comic Sans MS"/>
              </a:rPr>
              <a:t>Classe I B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70000" y="2638440"/>
            <a:ext cx="5670360" cy="2881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0"/>
                <a:gd name="adj2" fmla="val -420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n le mani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ell'acqu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566640" y="252360"/>
            <a:ext cx="58294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cc"/>
                </a:solidFill>
                <a:latin typeface="Comic Sans MS"/>
              </a:rPr>
              <a:t>Progetto Acqua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Dis09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324480" cy="853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Dis10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6400800" cy="807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Diap01" descr=""/>
          <p:cNvPicPr/>
          <p:nvPr/>
        </p:nvPicPr>
        <p:blipFill>
          <a:blip r:embed="rId1"/>
          <a:stretch/>
        </p:blipFill>
        <p:spPr>
          <a:xfrm>
            <a:off x="-533520" y="1676520"/>
            <a:ext cx="789948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Diap02" descr=""/>
          <p:cNvPicPr/>
          <p:nvPr/>
        </p:nvPicPr>
        <p:blipFill>
          <a:blip r:embed="rId1"/>
          <a:stretch/>
        </p:blipFill>
        <p:spPr>
          <a:xfrm>
            <a:off x="6480" y="1440"/>
            <a:ext cx="6851520" cy="9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Diap03" descr=""/>
          <p:cNvPicPr/>
          <p:nvPr/>
        </p:nvPicPr>
        <p:blipFill>
          <a:blip r:embed="rId1"/>
          <a:stretch/>
        </p:blipFill>
        <p:spPr>
          <a:xfrm>
            <a:off x="0" y="0"/>
            <a:ext cx="6905520" cy="914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Diap04" descr=""/>
          <p:cNvPicPr/>
          <p:nvPr/>
        </p:nvPicPr>
        <p:blipFill>
          <a:blip r:embed="rId1"/>
          <a:stretch/>
        </p:blipFill>
        <p:spPr>
          <a:xfrm>
            <a:off x="-533520" y="1600200"/>
            <a:ext cx="7899480" cy="59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Diap05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Diap06" descr=""/>
          <p:cNvPicPr/>
          <p:nvPr/>
        </p:nvPicPr>
        <p:blipFill>
          <a:blip r:embed="rId1"/>
          <a:stretch/>
        </p:blipFill>
        <p:spPr>
          <a:xfrm>
            <a:off x="-533520" y="1600200"/>
            <a:ext cx="789948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3080" y="-360"/>
            <a:ext cx="6168960" cy="837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Diap07" descr=""/>
          <p:cNvPicPr/>
          <p:nvPr/>
        </p:nvPicPr>
        <p:blipFill>
          <a:blip r:embed="rId1"/>
          <a:stretch/>
        </p:blipFill>
        <p:spPr>
          <a:xfrm>
            <a:off x="-457200" y="1600200"/>
            <a:ext cx="789948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Diap08" descr=""/>
          <p:cNvPicPr/>
          <p:nvPr/>
        </p:nvPicPr>
        <p:blipFill>
          <a:blip r:embed="rId1"/>
          <a:stretch/>
        </p:blipFill>
        <p:spPr>
          <a:xfrm>
            <a:off x="-457200" y="1600200"/>
            <a:ext cx="7899480" cy="59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2836440"/>
            <a:ext cx="582912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28520" y="527004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Dis0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400800" cy="868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Diap09" descr=""/>
          <p:cNvPicPr/>
          <p:nvPr/>
        </p:nvPicPr>
        <p:blipFill>
          <a:blip r:embed="rId1"/>
          <a:stretch/>
        </p:blipFill>
        <p:spPr>
          <a:xfrm>
            <a:off x="-533520" y="685800"/>
            <a:ext cx="7899480" cy="77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Diap10" descr=""/>
          <p:cNvPicPr/>
          <p:nvPr/>
        </p:nvPicPr>
        <p:blipFill>
          <a:blip r:embed="rId1"/>
          <a:stretch/>
        </p:blipFill>
        <p:spPr>
          <a:xfrm>
            <a:off x="-533520" y="1600200"/>
            <a:ext cx="7899480" cy="59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3080" y="75960"/>
            <a:ext cx="6168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62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Diap11" descr=""/>
          <p:cNvPicPr/>
          <p:nvPr/>
        </p:nvPicPr>
        <p:blipFill>
          <a:blip r:embed="rId1"/>
          <a:stretch/>
        </p:blipFill>
        <p:spPr>
          <a:xfrm>
            <a:off x="-533520" y="1600200"/>
            <a:ext cx="789948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Dis02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5486400" cy="67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Dis0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096240" cy="83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Dis04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6095880" cy="76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Dis05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6248160" cy="83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is06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400800" cy="868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Dis07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400800" cy="861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s08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400800" cy="8458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5:21:10Z</dcterms:created>
  <dc:creator>Direzione Didattica</dc:creator>
  <dc:description/>
  <dc:language>en-US</dc:language>
  <cp:lastModifiedBy>Himself</cp:lastModifiedBy>
  <dcterms:modified xsi:type="dcterms:W3CDTF">2010-07-17T07:54:51Z</dcterms:modified>
  <cp:revision>13</cp:revision>
  <dc:subject/>
  <dc:title>Diapositiva 1</dc:title>
</cp:coreProperties>
</file>